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34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34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1188720" y="725400"/>
            <a:ext cx="4637160" cy="347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0440" cy="4203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5"/>
          </p:nvPr>
        </p:nvSpPr>
        <p:spPr>
          <a:xfrm>
            <a:off x="0" y="8840880"/>
            <a:ext cx="3038400" cy="436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6"/>
          </p:nvPr>
        </p:nvSpPr>
        <p:spPr>
          <a:xfrm>
            <a:off x="3971880" y="8840880"/>
            <a:ext cx="3038400" cy="436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BAB8EAC-0079-464C-B815-179BD59196EF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9080" y="725400"/>
            <a:ext cx="4637160" cy="3478320"/>
          </a:xfrm>
          <a:prstGeom prst="rect">
            <a:avLst/>
          </a:prstGeom>
          <a:ln w="0">
            <a:noFill/>
          </a:ln>
        </p:spPr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197000" y="906480"/>
            <a:ext cx="888840" cy="54936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9080" y="72540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53640" y="4536720"/>
            <a:ext cx="5141880" cy="2530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9080" y="72540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94760" y="4076280"/>
            <a:ext cx="6783480" cy="3863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9080" y="72540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44640" y="4725720"/>
            <a:ext cx="5140080" cy="4203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DEC-BC42-45B5-A35B-5796040F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4B3-B90B-498D-9CCF-3386A943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E02-3D32-4B9C-9836-1CA5D58F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090A-6B45-43D7-AFE4-3ACB8E9F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040-9D90-4403-B18D-2ACF8D22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421-0863-4286-81FE-57385550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C92-7E8E-44FD-944C-6B996CB4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9DB6-BAAD-4B85-BBD4-500132C8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D0D-EE90-415B-8174-86DFE484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326-3BCF-4DCD-A72F-E213A95F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4A5-CF68-4288-9A50-D850BBCF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7720-C889-4825-8DE0-DE914411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8B23-5855-400A-A9FA-779915C2CFF4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3185-F40D-448C-9B68-3CCC72777D62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ZoneTexte 6"/>
          <p:cNvSpPr/>
          <p:nvPr/>
        </p:nvSpPr>
        <p:spPr>
          <a:xfrm>
            <a:off x="533520" y="2743200"/>
            <a:ext cx="782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ocial Transfer in the Philippine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ffaella Boudr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me Officer for the Food Facility in the Philippin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1467000" y="600120"/>
            <a:ext cx="658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Verdana"/>
              </a:rPr>
              <a:t>Vientiane, Laos 21st -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3" name="Picture 9" descr="EU FLAG"/>
          <p:cNvPicPr/>
          <p:nvPr/>
        </p:nvPicPr>
        <p:blipFill>
          <a:blip r:embed="rId1"/>
          <a:stretch/>
        </p:blipFill>
        <p:spPr>
          <a:xfrm>
            <a:off x="530280" y="584280"/>
            <a:ext cx="12333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rocess and performance indicators used (1)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Performance Indicators :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N° of people who benefitted from the food distribu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N° of project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satisfactorily implemented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Quantity of food distributed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Food consumption sco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N° of Meals consumed per da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N° of community assets successfully maintained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N° of people traine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rocess and performance indicators used (2)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675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Process Indicators :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N° of food dispatches and distributions on time (100%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N° of women in food management committees at Food Distribution Points  (75%)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N° of distributions completed on time (100%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N° of community based proposals submitted and reviewed within one month (100%)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28954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0" spc="-1" strike="noStrike">
                <a:solidFill>
                  <a:srgbClr val="f73515"/>
                </a:solidFill>
                <a:latin typeface="Tempus Sans ITC"/>
              </a:rPr>
              <a:t>THANK YOU!</a:t>
            </a:r>
            <a:endParaRPr b="0" lang="en-US" sz="6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86CD-F634-4BF8-8EBA-ADE687FE859A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ZoneTexte 2"/>
          <p:cNvSpPr/>
          <p:nvPr/>
        </p:nvSpPr>
        <p:spPr>
          <a:xfrm>
            <a:off x="165240" y="469800"/>
            <a:ext cx="824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example of social transfer in the Philippines 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WFP food facility funded project (1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87440" y="1811160"/>
            <a:ext cx="7772400" cy="35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0000"/>
                </a:solidFill>
                <a:uFillTx/>
                <a:latin typeface="Verdana"/>
              </a:rPr>
              <a:t>Programme objectiv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609480" indent="-6094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Expansion of Food for Assets Activities in support of productive safety net activities for poor and food insecure areas in Mindanao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609480" indent="-6094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609480" indent="-6094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0000"/>
                </a:solidFill>
                <a:uFillTx/>
                <a:latin typeface="Verdana"/>
              </a:rPr>
              <a:t>Programme Component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990720" indent="-53352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Food for Assets/Food for train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990720" indent="-53352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Establishment of a vulnerability assessment mapping capacity at the national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609480" indent="-609480">
              <a:lnSpc>
                <a:spcPts val="2798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609480" indent="-6094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609480" indent="-6094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 u="sng">
                <a:solidFill>
                  <a:srgbClr val="000000"/>
                </a:solidFill>
                <a:uFillTx/>
                <a:latin typeface="Verdana"/>
              </a:rPr>
              <a:t>Location</a:t>
            </a: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The programme covers 5 of the poorest, conflict affected provinces in Mindanao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 u="sng">
                <a:solidFill>
                  <a:srgbClr val="000000"/>
                </a:solidFill>
                <a:uFillTx/>
                <a:latin typeface="Verdana"/>
              </a:rPr>
              <a:t>Beneficiar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The programme benefits nearly 200 000 households belonging to conflict affected communities, with a special targeting of :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-381240">
              <a:lnSpc>
                <a:spcPts val="2798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Internally Displaced People who returned back hom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-381240">
              <a:lnSpc>
                <a:spcPts val="2798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Internally Displaced People who resettled in new commun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08200" y="573120"/>
            <a:ext cx="72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example of social transfer in the Philippines 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WFP food facility funded project (2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PH" sz="1800" spc="-1" strike="noStrike" u="sng">
                <a:solidFill>
                  <a:srgbClr val="000000"/>
                </a:solidFill>
                <a:uFillTx/>
                <a:latin typeface="Verdana"/>
              </a:rPr>
              <a:t>Implementation modal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Project approac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PH" sz="1800" spc="-1" strike="noStrike" u="sng">
                <a:solidFill>
                  <a:srgbClr val="000000"/>
                </a:solidFill>
                <a:uFillTx/>
                <a:latin typeface="Verdana"/>
              </a:rPr>
              <a:t>Institutional Arrangemen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WFP works with the GoP through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09880" indent="-221400">
              <a:lnSpc>
                <a:spcPts val="2798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Department of Social Welfare and Develop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09880" indent="-221400">
              <a:lnSpc>
                <a:spcPts val="2798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Department of Agricultu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09880" indent="-221400">
              <a:lnSpc>
                <a:spcPts val="2798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Department of Environment and Natural Resou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09880" indent="-221400">
              <a:lnSpc>
                <a:spcPts val="2798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Department of Educ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09880" indent="-221400">
              <a:lnSpc>
                <a:spcPts val="2798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Local Government Units, NGOs, Provincial gvt, UN country tea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0988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PH" sz="1800" spc="-1" strike="noStrike" u="sng">
                <a:solidFill>
                  <a:srgbClr val="000000"/>
                </a:solidFill>
                <a:uFillTx/>
                <a:latin typeface="Verdana"/>
              </a:rPr>
              <a:t>Practical arrangemen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808200" y="573120"/>
            <a:ext cx="72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example of social transfer in the Philippines 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WFP food facility funded project (3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Context: existing social transfer programm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WFP action in social transfers in the Philippin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Policy dialogu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olicy dialogue and programme context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aa1f1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fr-BE" sz="1800" spc="-1" strike="noStrike">
                <a:solidFill>
                  <a:srgbClr val="000000"/>
                </a:solidFill>
                <a:latin typeface="Verdana"/>
              </a:rPr>
              <a:t>The Health Support programm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fr-BE" sz="1800" spc="-1" strike="noStrike">
                <a:solidFill>
                  <a:srgbClr val="000000"/>
                </a:solidFill>
                <a:latin typeface="Verdana"/>
              </a:rPr>
              <a:t>ECHO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fr-BE" sz="1800" spc="-1" strike="noStrike">
                <a:solidFill>
                  <a:srgbClr val="000000"/>
                </a:solidFill>
                <a:latin typeface="Verdana"/>
              </a:rPr>
              <a:t>Other Food Facility Projects in Mindanao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How does the programme fit with other EC activities?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Programme state of play and achievemen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Why is this programme successful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A strong institutional support from DSW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An action fully integrated and coordinated with existing and successful programmes of WFP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A participatory and transparent set up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A good implementation capacity of WFP in the countr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369720" y="-1908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gramme achievements and reasons for success</a:t>
            </a: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000000"/>
                </a:solidFill>
                <a:latin typeface="Arial"/>
              </a:rPr>
              <a:t>Factors to be considered at each phase of the programme cycle (1)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 u="sng">
                <a:solidFill>
                  <a:srgbClr val="000000"/>
                </a:solidFill>
                <a:uFillTx/>
                <a:latin typeface="Verdana"/>
              </a:rPr>
              <a:t>Programm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90720" indent="-53352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State of policy dialogu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90720" indent="-53352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Existing national policies on Food Security, Social Protection and Poverty Reduc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9072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609480" indent="-6094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 u="sng">
                <a:solidFill>
                  <a:srgbClr val="000000"/>
                </a:solidFill>
                <a:uFillTx/>
                <a:latin typeface="Verdana"/>
              </a:rPr>
              <a:t>Identific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90720" indent="-53352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Existing non governmental social transfer programmes in the country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90720" indent="-53352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Government actual institutional capacity to act as a counterpar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90720" indent="-53352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800" spc="-1" strike="noStrike">
                <a:solidFill>
                  <a:srgbClr val="000000"/>
                </a:solidFill>
                <a:latin typeface="Verdana"/>
              </a:rPr>
              <a:t>Existing capacity of potential implementing organism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6094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Factors to be considered at each phase of the programme cycle (2)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ormul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60840" indent="-51732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Coordinated discussions with all the interested parties AND the other implementing parties on the best course of action to tak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60840" indent="-51732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Stock taking from similar experiences in other countries (with similar situ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6084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591120" indent="-59112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Implement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60840" indent="-51732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Coordination with other actor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60840" indent="-51732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Follow up/Monitor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6084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591120" indent="-59112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Evalu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60840" indent="-51732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Impact evaluation and lessons lear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591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91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albyflores_v</cp:lastModifiedBy>
  <cp:lastPrinted>2003-11-06T16:40:02Z</cp:lastPrinted>
  <dcterms:modified xsi:type="dcterms:W3CDTF">2010-07-19T14:39:50Z</dcterms:modified>
  <cp:revision>891</cp:revision>
  <dc:subject/>
  <dc:title>No Slide Title</dc:title>
</cp:coreProperties>
</file>